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48BA-68A9-4D45-BA55-B3272204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9E2-E790-474D-81F6-B297FF4F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8D48-68BD-4B1F-B7BC-8B43A0FF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DDD-BA0F-472B-A03B-A6F2EA57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09F-CA32-468D-AA73-8327D47F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859-BABC-4DC7-A8B8-EAA86E5C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C19-5BA6-48B4-B953-C1FCC8D3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B94-1727-4E35-ADE8-0E689623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8B0-8418-411D-A918-EC89BEE9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BB5-DAB1-4B7B-81EE-EB615B7D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A94-BD02-4229-9D80-8707B729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1F78-CE28-4B90-9BDB-A0756945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16C7-50E3-4967-B7CE-4293D836C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Yaseen A. and Charlie 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0" y="2362320"/>
            <a:ext cx="44956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dra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nd In North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Borders Arctic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Russia’s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er Temperatures than Asia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id Continental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ase You Didn’t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5410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oods of Russia’s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Tactic for Wa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ntiful Rain for Abundant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ttract Sk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woohoo"/>
          <p:cNvPicPr/>
          <p:nvPr/>
        </p:nvPicPr>
        <p:blipFill>
          <a:blip r:embed="rId1"/>
          <a:stretch/>
        </p:blipFill>
        <p:spPr>
          <a:xfrm>
            <a:off x="4648320" y="1447920"/>
            <a:ext cx="3581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ds of Russia’s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lot of tourists!!!! (Due to cold wea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Dry Years, with less rain fall so wheat crops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t’s Co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e to Russia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thern Locati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ssia is CO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292716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l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1523880"/>
            <a:ext cx="510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rctic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2286000"/>
            <a:ext cx="495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21337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id Contin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743200"/>
            <a:ext cx="5638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8954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8195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3505320"/>
            <a:ext cx="533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3581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id Continental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pe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 Steppe— Found in South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Found In Areas Near The Black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1:56:58Z</dcterms:created>
  <dc:creator>QPS</dc:creator>
  <dc:description/>
  <dc:language>en-US</dc:language>
  <cp:lastModifiedBy> </cp:lastModifiedBy>
  <dcterms:modified xsi:type="dcterms:W3CDTF">2010-12-15T14:34:54Z</dcterms:modified>
  <cp:revision>4</cp:revision>
  <dc:subject/>
  <dc:title>Russia’s Climate</dc:title>
</cp:coreProperties>
</file>